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8640" y="500040"/>
            <a:ext cx="36133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5520" y="3170160"/>
            <a:ext cx="7275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C6BD-D48C-43F0-9C2A-453B69EB87A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8916-CB0F-4924-B5F5-C4B20E8440B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162240" y="500040"/>
            <a:ext cx="3614760" cy="2503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2320" cy="30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97F2-7546-402E-BAED-63E02A8F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930-98E2-4FDE-A63C-005CF482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D41-8318-4104-837F-31A5C1A6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E7B-DE13-4054-B66D-07F913F8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85B1-F7EB-45D5-80D5-DF10C2E0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AFE-2F2F-40ED-A69A-A6E8F9C3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B6D-0C30-4BBD-8FBE-516815BC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D4E-071C-4853-91DA-B1A35C40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42B-B949-4040-A885-7F839A66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D8D-F488-4750-8A53-13607FD2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9709-BAD2-4D6F-BA1B-6905D705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0EF9-C67D-4D7C-A72C-B0B1DE54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B522-ED24-48AE-99E2-DE1F8A362D5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43C4-0EF3-4815-8950-88DA40CDD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_117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114800" y="5105160"/>
            <a:ext cx="5130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Presentado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Luis Ortigas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gosto 26</a:t>
            </a: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Comic Sans MS"/>
              </a:rPr>
              <a:t>El Proyecto Camis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04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resentación COM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075-32C3-4337-9CD4-C53A5F7047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7680" y="457200"/>
            <a:ext cx="936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Precios de Etevensa y Usuarios Iniciales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2133720"/>
            <a:ext cx="932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4" marL="1995480" indent="-221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tevensa    In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9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1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78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800600"/>
            <a:ext cx="1523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48006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B9B-A358-4621-BCA8-7057446718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143000"/>
          <a:ext cx="99061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228600"/>
            <a:ext cx="871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Estructura de Precios Gas Natural</a:t>
            </a:r>
            <a:br>
              <a:rPr sz="4000"/>
            </a:b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016-D2B3-4C7A-8F91-E7E04D623F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295280"/>
          <a:ext cx="99061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906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08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Gas Natural vs. Comb. Líquidos </a:t>
            </a: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072-322F-443D-A63F-43FA4B0C08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1504800"/>
            <a:ext cx="9410400" cy="5073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1552680"/>
            <a:ext cx="225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94280" y="1552680"/>
            <a:ext cx="25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4320" y="1542960"/>
            <a:ext cx="234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40" y="1542960"/>
            <a:ext cx="2536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5240" y="228600"/>
            <a:ext cx="9566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Comic Sans MS"/>
              </a:rPr>
              <a:t>Beneficios del Proyecto Cami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8320" y="17146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9880" y="17334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94280" y="169560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4320" y="169560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180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326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1460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ción del costo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3389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Balanza Comercial de Hidrocar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569736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la Inversión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469908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Industria mas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240" y="230508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1800" y="2517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Regal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1800" y="3389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514600"/>
            <a:ext cx="25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emisiones (CO2/SO2/N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3541680"/>
            <a:ext cx="248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me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800" y="4667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Aranc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2640" y="2525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 para Reg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469116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nología y Transferencia de Know-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3280" y="33894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rtunidades de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150480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657864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75640" y="14922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33526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46432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240" y="569736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454-E4FF-40EE-9904-EDC5E8903A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7432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 en Lima y Call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A455-521D-4FE4-9D39-3E23C0C9A3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2209680"/>
            <a:ext cx="71816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vensa (TO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s (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les a la POC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do al 10</a:t>
            </a:r>
            <a:r>
              <a:rPr b="1" lang="en-US" sz="32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5029200"/>
            <a:ext cx="9294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suscritos antes de otorgar la buena pro para la explotación en enero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= Puesta en Operación Comercial (agosto 200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adicional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do se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udio de Mercado de Stone &amp; Webster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 transferido de Electrop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P de 80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514600"/>
            <a:ext cx="20574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rc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43C7-08F5-4E9F-B790-B047BBF86C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4304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14400" y="1812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264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nte: Estudio T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ico y de Demanda, Stone &amp; Webster, nov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CFD-7FE3-4D1D-8A3D-AF24B8DD96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280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Comic Sans MS"/>
              </a:rPr>
              <a:t>Demanda estimada de 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440" y="1371600"/>
          <a:ext cx="9740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71600"/>
                    <a:ext cx="9740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010280" y="63244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Apo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B10-9C4F-4F72-8ED0-04C41E4CDB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2296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BDA-BB64-4C27-8FF0-683F3FE11D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2437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Economí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815-D6A8-4BDF-93F9-3EF7E8295F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En Qué Consiste El Desarrollo Del Proyecto Camise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3040" y="2397240"/>
            <a:ext cx="8705880" cy="95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1. Explota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l Lote 8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3657600"/>
            <a:ext cx="8705880" cy="133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porte de Gas Natural y 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d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Gas Natural de Camisea a la Co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3040" y="5292720"/>
            <a:ext cx="8705880" cy="121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 Gas Natural en Li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y Calla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7D1-EEDF-4FBE-B8FB-D1F910C8B0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Pará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45720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cimiento de la 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5% entre 2004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% entre 2010 -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% entre 2015 - 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% a partir de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s de cru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 US$Bb 2004 –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3 2006 –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a partir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 de descuento: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alías: 37.2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67652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on: 50% de Regal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ta L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08 Inicio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25 MMPCD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 añ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GN con PVR de US$ 0.53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er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3 TCF de 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30 MMBB de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F5E-02D6-4175-A1FE-C79875EC78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A1E-9126-4B9E-86FA-FC925AF78A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0"/>
            <a:ext cx="9296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6600ff"/>
                </a:solidFill>
                <a:latin typeface="Comic Sans MS"/>
              </a:rPr>
              <a:t>Ventas, Ingresos, Regalías y Can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6600ff"/>
                </a:solidFill>
                <a:latin typeface="Comic Sans MS"/>
              </a:rPr>
              <a:t>Mercado Local y Exportaci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6095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rcado Local: 40 años         Proyecto Exportación LNG: 2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447920"/>
          <a:ext cx="99061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906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93A1-A515-44FE-9F4E-49A38FDB9B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D4F4-619C-4334-8AD6-8789D7B087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360" y="684360"/>
            <a:ext cx="674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ff"/>
                </a:solidFill>
                <a:latin typeface="Comic Sans MS"/>
              </a:rPr>
              <a:t>Algo bueno ha llegado…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5360" y="1974960"/>
            <a:ext cx="4044960" cy="371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40320" y="2362320"/>
            <a:ext cx="3632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808080"/>
                </a:solidFill>
                <a:latin typeface="Arial"/>
              </a:rPr>
              <a:t>Una oportunidad para mejorar la economía y la calidad de vida de los peru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200" spc="-1" strike="noStrike">
                <a:solidFill>
                  <a:srgbClr val="2c8659"/>
                </a:solidFill>
                <a:latin typeface="Comic Sans MS"/>
              </a:rPr>
              <a:t>Camise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56560" y="0"/>
            <a:ext cx="214956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97920" y="4924440"/>
            <a:ext cx="1708200" cy="19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BA5-BB58-4A63-B104-FA3E3ED48201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Comic Sans MS"/>
              </a:rPr>
              <a:t>Uso Potencial del Gas Na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Industr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por para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Mine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alu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inación de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umo para Hierro Espo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Resi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otriz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GN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andes Proyectos de Expor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tro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ción de Energía Eléct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F81-EF08-43A6-BC96-A9F8A097C9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83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190476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y utilización de un recurso natural de gran magn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a Balanza Comercial deficitaria de Hidrocarb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cia la reactivación de un frente de exploración en 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entral y el desarrollo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diversificación de fuentes energéticas a menores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7EE-94F7-4235-A6D3-D05F3DC3FF2A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53316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 fuentes de ingresos para 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tado y la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puest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de nuevas industrias: LNG, Petroquímica,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, Hierro Esponja, entr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ibuye a la mejora del medio ambiente al reemplazar combustible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4462-5C4E-46CD-B0B5-2C1DD2097E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904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Balanza Comercial de Hidrocarburos</a:t>
            </a:r>
            <a:br>
              <a:rPr sz="3900"/>
            </a:b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1981–2002 (Millones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30120" y="1523880"/>
          <a:ext cx="8998200" cy="50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523880"/>
                    <a:ext cx="89982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41BA-53C1-446D-AC16-49A9BC624F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920" y="380880"/>
            <a:ext cx="8826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ff"/>
                </a:solidFill>
                <a:latin typeface="Comic Sans MS"/>
              </a:rPr>
              <a:t>Impacto de Camisea sobre la Balanza Comercial de Hidrocarburos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2920" y="1828800"/>
            <a:ext cx="9162720" cy="4906800"/>
            <a:chOff x="412920" y="1828800"/>
            <a:chExt cx="9162720" cy="49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12920" y="1828800"/>
              <a:ext cx="916272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1828800"/>
              <a:ext cx="708660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33720" y="1828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Millones US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9FB-E6A5-41FB-B765-D52FAE16E0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666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Prec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3FD-A0B9-4F90-91B2-F00AA93F8C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6400" y="228600"/>
            <a:ext cx="912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Precios Máximos del Gas Natural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523880"/>
            <a:ext cx="932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4" marL="2036520" indent="-226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éctrico    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a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c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94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)   Precios máximos según Contrato de Licencia. Se ajustan anualmente según una canasta de fuel o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b)   Tarifas aplicables oficiales. Tienden a igualarse ambas tarifas hacia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 Cuzco tend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precio para otr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419112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191120"/>
            <a:ext cx="1067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4191-5929-4418-B9F7-6C7DAC6FA5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4:35:48Z</dcterms:created>
  <dc:creator>Luis Ortigas C.</dc:creator>
  <dc:description>Presentación UQAM 14 mayo 2004</dc:description>
  <dc:language>en-US</dc:language>
  <cp:lastModifiedBy>Luis E. Ortigas</cp:lastModifiedBy>
  <cp:lastPrinted>2002-02-06T13:51:36Z</cp:lastPrinted>
  <dcterms:modified xsi:type="dcterms:W3CDTF">2004-08-24T18:49:53Z</dcterms:modified>
  <cp:revision>755</cp:revision>
  <dc:subject/>
  <dc:title>EL PROYECTO CAMISEA</dc:title>
</cp:coreProperties>
</file>